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D2B9-1195-474E-9E54-FC8E8330A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D2BD-35BE-421F-AB17-700B102D9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4332-06D7-4A8A-8D13-653FEAD0F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8E64-B862-4AE6-BE57-F64BC3273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C9637-0E0D-4487-9D1E-276917F32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39760-A37D-4E87-B98D-40618B838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0DCBD-282C-46F2-988A-0DE177725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B5916-4CD1-4379-9C53-98F070FDD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4C834-5EB9-45C6-826F-6C5F9C100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5BBC4-0279-4B28-9151-D7F6385E3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39084-A154-4763-925A-B683DE5F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7AFC-F319-4313-B883-36C211572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4C5CD-406B-4620-AC6B-0408D197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80BEE-8036-4DEC-95A5-E784150D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AE080-8FAD-4A2B-A0EB-A2C644F83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3F8A7-6188-4023-80AD-0F1B04E46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532F0-0B94-4B4C-AA6E-EB765B800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FE81A-CAC9-473A-A198-FBD2E4CE6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F683C-65B2-4375-95EA-62DED0F95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72DF6-3055-49F1-8E62-1186BBC22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CA002-07F7-40D6-BE79-8E7D8912C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EC421-AD4A-4BD1-9B05-F26068D5D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4282-3874-4839-8D5A-22B25EFEA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BCE77-80B7-4EBF-B0E4-ACCF46865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AB067-2019-4233-8668-9F741279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466A4-8F6C-40CC-B113-2B1470F5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DF71F-7829-40BB-B7B1-BA7871B7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AB4EE-7B97-4772-9A08-99D2C23D9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9C48E-E0D4-4EBE-9C36-6F292CBA4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88CB5-0F75-41F8-884E-1CB3119BE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C5A16-693A-49D1-B2E7-26C4A6938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DC3E5-0034-421E-8B10-BB068347A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80D35-5F78-46FB-9360-A3A4B1FF8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5808-8355-4D56-A59F-4D65B9AB3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BB46B-C6A4-4839-83B6-524B8E1C2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1DA7D-230E-4616-80D6-82B5CBDC2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759F4-2478-4E28-A378-DF4983FA4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10AEE-1766-4C44-BF97-EE80FDB2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9146B-934D-436C-B09F-171265AA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5753E-E614-4E10-BB17-47960DAC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3E54A-C5EE-42C3-BF3D-66F3A348E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5285A-40DA-44C4-B5A0-D5C83844A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C8DD6-D3C2-41F7-989F-A9C500100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86199-CF5F-4D16-8DB7-902514C3E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30ED-97E4-456A-8F2F-4BC2D37F4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14729-F5DD-4B8F-9F21-E29FFB364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CC1C0-6F84-43FA-B4C2-FEB82821C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434CE-3C98-4F4B-9FAC-4D03198B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8F4AF-4A33-4B25-AC0F-8A73A568E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74A0F-AD07-41D2-85D0-42E38F26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252DA-8C96-4833-80BA-88E4BCA7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FD328-CA30-4B08-B245-8038F69A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55681-1AA1-4824-94E8-20AF31F4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8BAA9-356D-4CCE-A654-CE9C6F4E5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0183B-DA6D-46DB-8253-392C2B6EF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A869-11A5-4DCD-B5B6-4175DEC44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2D460-5892-46BF-9F9B-3AF86DAAF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3D36D-EC92-48BA-997C-5B319234C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2AF3A-59F3-44B9-9D2A-CA4D91540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490A36-67E3-4693-89F2-344FB6D17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644B5-04C2-4E11-B1CE-95A1D7E88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392BC-96CB-4618-8DBA-FEB9E57AC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EECBD-1268-4E37-A140-856900FF3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3917B-2E36-4AD4-8610-DC6579C9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557DF-9C26-4AD4-AC30-182C9959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57C23-E872-47AC-81B1-42F3698A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E9CA-01DE-43C7-A8D5-C8790DE0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EE1E0-D0A0-4B2D-AF79-B6E455F83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B1015-779A-4E4D-8305-CE73325F0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972B3-3E15-4EC7-8B31-C351125FA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D297B-106D-4322-A957-09FB40843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A343C-F7A6-42F4-88C9-92AE4A929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646519-BF0B-4264-A4A3-472BEDCDF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8DD584-E10B-442F-9C71-BE9D8B861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23095-4619-40F0-BC3A-19D436B75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C7BFC-2B1E-4915-8950-AE3DDA65E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B4CAC-3173-43E3-9B03-30A687DF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3812-F2A7-441D-AF12-788FC1D1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CAA591-6CB3-441D-BC7D-FCA51A25D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DA3C53-BB28-4FA9-9526-B8B0C75D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856C3-6F5E-4305-8051-87E0C167B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40885-B8C9-4FE3-9616-6D45238AE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4AF736-5647-4433-BE32-950E86BF3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A36F-C7B6-4798-A4F2-BBCE35C8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0077D-5514-4633-92CC-1160A1E9475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6AAB4-97B7-4FA7-A630-B437EB5BEF2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0CDC1-330A-4BDA-9A11-8838ED67C20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9A762-9ACE-4391-AF46-E8D7CE24B5D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0CE2C-FE3F-440C-AEC2-15BEE5820D3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63A2F-C13F-4497-9B72-93CEC5170DD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8AF7D-7428-46E4-8A73-44E7C982C2B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Заголовок 1" descr=""/>
          <p:cNvPicPr/>
          <p:nvPr/>
        </p:nvPicPr>
        <p:blipFill>
          <a:blip r:embed="rId2"/>
          <a:stretch/>
        </p:blipFill>
        <p:spPr>
          <a:xfrm>
            <a:off x="1060560" y="1500120"/>
            <a:ext cx="8083440" cy="1955880"/>
          </a:xfrm>
          <a:prstGeom prst="rect">
            <a:avLst/>
          </a:prstGeom>
          <a:ln w="0">
            <a:noFill/>
          </a:ln>
        </p:spPr>
      </p:pic>
      <p:sp>
        <p:nvSpPr>
          <p:cNvPr id="319" name="TextBox 3"/>
          <p:cNvSpPr/>
          <p:nvPr/>
        </p:nvSpPr>
        <p:spPr>
          <a:xfrm>
            <a:off x="1476360" y="115920"/>
            <a:ext cx="719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3"/>
          <p:cNvSpPr/>
          <p:nvPr/>
        </p:nvSpPr>
        <p:spPr>
          <a:xfrm>
            <a:off x="1835280" y="5516640"/>
            <a:ext cx="709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2" descr="&amp;Dcy;&amp;iecy;&amp;tcy;&amp;scy;&amp;kcy;&amp;icy;&amp;jcy; &amp;scy;&amp;acy;&amp;dcy; 2413 16 &amp;Mcy;&amp;Acy;&amp;Rcy;&amp;Tcy;&amp;Acy; &amp;Vcy; &amp;Rcy;&amp;Acy;&amp;Mcy;&amp;Kcy;&amp;Acy;&amp;KHcy; &amp;Pcy;&amp;Rcy;&amp;Ocy;&amp;IEcy;&amp;Kcy;&amp;Tcy;&amp;Acy; &quot;&amp;Mcy;&amp;Ocy;&amp;Scy;&amp;Kcy;&amp;Vcy;&amp;Icy;&amp;CHcy;&amp;Icy; &amp;Scy; &amp;Rcy;&amp;Ocy;&amp;ZHcy;&amp;Dcy;&amp;IEcy;&amp;Ncy;&amp;Icy;&amp;YAcy; - &amp;Zcy;&amp;Acy; &amp;Bcy;&amp;IEcy;&amp;Zcy;&amp;Ocy;&amp;Pcy;&amp;Acy;&amp;Scy;&amp;Ncy;&amp;Ocy;&amp;Scy;&amp;Tcy;&amp;SOFTcy; &amp;Dcy;&amp;Ocy;&amp;Rcy;&amp;Ocy;&amp;ZHcy;&amp;Ncy;&amp;Ocy;&amp;Gcy;&amp;Ocy; &amp;Dcy;&amp;Vcy;&amp;Icy;&amp;ZHcy;&amp;IEcy;&amp;Ncy;&amp;Icy;&amp;YAcy;&quot; &amp;Pcy;&amp;Rcy;&amp;Ocy;&amp;SHcy;&amp;Lcy;&amp;Acy; &amp;Vcy;&amp;Scy;&amp;Tcy;&amp;Rcy;&amp;IEcy;&amp;CHcy;&amp;Acy; &amp;Scy; &amp;Icy;&amp;Ncy;&amp;Scy;&amp;Pcy;&amp;IEcy;&amp;Kcy;&amp;Tcy;&amp;Ocy;&amp;Rcy;"/>
          <p:cNvPicPr/>
          <p:nvPr/>
        </p:nvPicPr>
        <p:blipFill>
          <a:blip r:embed="rId3"/>
          <a:stretch/>
        </p:blipFill>
        <p:spPr>
          <a:xfrm>
            <a:off x="1547640" y="3500280"/>
            <a:ext cx="1368720" cy="17290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4" descr="&amp;Mcy;&amp;acy;&amp;tcy;&amp;iecy;&amp;rcy;&amp;icy;&amp;acy;&amp;lcy;&amp;ycy; &amp;zcy;&amp;acy; 03.08.2011 &quot; &amp;Scy;&amp;tcy;&amp;rcy;&amp;acy;&amp;ncy;&amp;icy;&amp;tscy;&amp;acy; 128 &quot; &amp;Ocy;&amp;bcy;&amp;rcy;&amp;acy;&amp;zcy;&amp;ocy;&amp;vcy;&amp;acy;&amp;tcy;&amp;iecy;&amp;lcy;&amp;softcy;&amp;ncy;&amp;ycy;&amp;jcy; &amp;pcy;&amp;ocy;&amp;rcy;&amp;tcy;&amp;acy;&amp;lcy; &amp;Mcy;&amp;icy;&amp;scy;&amp;tcy;&amp;iecy;&amp;rcy;&amp;Gcy;&amp;Icy;&amp;Dcy;"/>
          <p:cNvPicPr/>
          <p:nvPr/>
        </p:nvPicPr>
        <p:blipFill>
          <a:blip r:embed="rId4"/>
          <a:stretch/>
        </p:blipFill>
        <p:spPr>
          <a:xfrm>
            <a:off x="4211640" y="3645000"/>
            <a:ext cx="1576440" cy="16556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6" descr="&amp;Pcy;&amp;Dcy;&amp;Dcy;. &amp;Ucy;&amp;chcy;&amp;iecy;&amp;bcy;&amp;ncy;&amp;ocy;&amp;iecy; &amp;pcy;&amp;ocy;&amp;scy;&amp;ocy;&amp;bcy;&amp;icy;&amp;iecy; &amp;dcy;&amp;lcy;&amp;yacy; &amp;acy;&amp;vcy;&amp;tcy;&amp;ocy;&amp;shcy;&amp;kcy;&amp;ocy;&amp;lcy;. &amp;Vcy;&amp;ocy;&amp;zhcy;&amp;dcy;&amp;iecy;&amp;ncy;&amp;icy;&amp;iecy; 2011, DOCX, PDF, MP3 TORRENTS.TJ"/>
          <p:cNvPicPr/>
          <p:nvPr/>
        </p:nvPicPr>
        <p:blipFill>
          <a:blip r:embed="rId5"/>
          <a:stretch/>
        </p:blipFill>
        <p:spPr>
          <a:xfrm>
            <a:off x="7020000" y="3213000"/>
            <a:ext cx="145728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Рисунок 1" descr="2_0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0T04:44:21Z</dcterms:created>
  <dc:creator>admin</dc:creator>
  <dc:description/>
  <dc:language>en-US</dc:language>
  <cp:lastModifiedBy>эльдорадо</cp:lastModifiedBy>
  <dcterms:modified xsi:type="dcterms:W3CDTF">2020-05-06T17:24:14Z</dcterms:modified>
  <cp:revision>9</cp:revision>
  <dc:subject/>
  <dc:title>ПРАВИЛА ДОРОЖНОГО ДВИЖЕНИЯ</dc:title>
</cp:coreProperties>
</file>