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F5B9-F3D8-41D1-8C04-4B192AB9E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60E4-D24B-4982-A239-030D6626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4059-7A39-4DAE-9066-94039451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941C-33FC-4F3F-97C4-0248D3C58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B5CD-DB38-4DE7-8815-7C301BA0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66D51-CE87-4FD8-8265-90932599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7D6B-E673-4332-B777-97B3252A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E373-5290-4646-A7BD-E076F23A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D138-6DBD-4CE4-B3CB-93686A25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BFA7B-AF4B-4143-804C-16D2014B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A11B-C3D4-4B53-83BE-C5A0E647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744D-4BB8-4E5F-9289-D7915766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6021-7BCB-4117-BE1B-B16D256F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27BE-24EC-4F04-85EE-2206E867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4A23-5754-4C91-A86D-B1F45ED2A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096-E74D-45BF-89CE-43210F30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1542-54B6-4D54-98D2-CF2866A87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EB76-5F1E-449B-B503-E9F28CCD2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F71A0-849A-4A89-8FCA-7D1293DE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FD681-0614-4041-A704-A3D769B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53155-C31E-4CB4-A822-9FB1E136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416C-2862-48C2-8B7C-C8C5F28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CA89-71A1-4800-80E3-43B0B4DB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F3754-A858-4DA4-94A4-90C3B3D6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3858D-508B-4509-9A17-01D3B1CA1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46B3-F6A7-4824-8B3F-52DEEB62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27E5F-5FA1-4F7C-A60D-32DAABD1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EB8C-DF35-45DC-901B-1CFF52C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BEFE0-CB53-4D8D-9C75-75E6567F8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A99D9-04DD-4F37-A6D0-C51B53695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8A2FC-6398-4369-80B7-9AD4117E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2C061-FF05-4218-B6AB-B0105153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0D1A5-E80A-42B2-9C75-E1675DF3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DFA-E3A3-436E-AEFA-EEA2B5B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D0E5E-96E0-4DFB-A953-F9CF29C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A30B3-075B-4161-945F-BC423686B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5390E-02BF-46E3-BCD5-48D24B19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0101B-2EC1-4E05-8E2A-A2F4BB75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8D0D-BFD6-4550-8BCA-1BB3B788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E84BF-4FF9-4B9F-BDDD-7AE7F112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52F6-E6A6-4ADA-896E-D5CD1B02E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A0009-6BBC-41E1-9440-DC5657B76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25E9-23DC-4307-B544-89B590F6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8B3ED-5105-46DB-BE31-FB9C8D286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FF8-9C98-45CD-B4AE-44F4133D2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AF695-06C4-4184-9F68-319C55FA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E1E1F-18C3-45E8-B65E-6F8312C4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6D374-9168-490B-A843-610ECEA6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4C84F-0E2E-4B79-90D9-376F1893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FF56C-2867-4937-B3E1-111CAC7F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AACA0-710B-4883-8ADA-05A625E8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5247-0E19-4724-8D5D-334C3FC3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73E7D-4B0A-4958-B901-0E3734D2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24668-B73D-467F-A650-ECCC697A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0F509-B523-4D9A-BBFD-08291563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75D3-2DA8-46A3-90AB-095AE0EA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A42C9-9D77-49F4-993C-BA34A901E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0A27C-2922-40DB-B925-10D29998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966C-3C41-45FE-AA58-6BF5E32F0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DCC2D-84B7-400B-9454-8532DEC4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5A418-3B18-41C0-830A-610D9411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4BF1F-06B0-431D-A498-B485B06E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BA873-6447-47B7-90CB-81190649E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7089A-3063-4F98-9A01-E1CA684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0F141-3B10-47C7-B405-549F12F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333A3-CBFA-4EA9-8AA6-98FC5ED7E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3E22-82EC-4660-8FB1-845D37B5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94BDA-4691-4842-B985-CF4CAFC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AD075-F4A2-4F33-AC1C-31698D743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551BB-EC1E-4F1A-9387-086F1D9C7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843B0-9F6A-4777-AF45-2890CC3CB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1376B-2834-4CBA-B12B-267F4B1B1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1A5D0-096E-4AA2-90C3-8E9483FD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7B8904-1733-4390-88C8-209A9C85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4C18F-BF8A-4408-A968-BA1143A6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AC2A-2BC8-43F1-BD94-85579D1C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438FF-ADC5-4572-A321-B6044F54E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46D-60D2-4439-A68F-390A2843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95D7F-92A0-4B85-A395-B64C0E28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5C34EA-07B7-447F-BF6D-A631301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69C9A-DA02-462F-81AA-F71E0288C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61795-95B0-47E7-AD3B-99EE0BA3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60174-1C8D-4424-A3F8-981BCCFB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F33-48BB-4141-948E-5B5588E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CD91-518D-4F96-BAB6-2B8C53204EB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6C5-7D0A-4593-A92B-B6A683C3392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9596-B324-4802-914F-F3D3DEE659F5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2878-E6BD-42EB-9D8F-818B3CA8261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5203E-E605-4DC2-836D-3BCCCE9426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B8BA-B944-4034-AB51-900399844E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E5CA-4580-4921-9E88-64CEE3DF28F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Заголовок 1" descr=""/>
          <p:cNvPicPr/>
          <p:nvPr/>
        </p:nvPicPr>
        <p:blipFill>
          <a:blip r:embed="rId2"/>
          <a:stretch/>
        </p:blipFill>
        <p:spPr>
          <a:xfrm>
            <a:off x="1060560" y="1500120"/>
            <a:ext cx="8083440" cy="1955880"/>
          </a:xfrm>
          <a:prstGeom prst="rect">
            <a:avLst/>
          </a:prstGeom>
          <a:ln w="0">
            <a:noFill/>
          </a:ln>
        </p:spPr>
      </p:pic>
      <p:sp>
        <p:nvSpPr>
          <p:cNvPr id="319" name="TextBox 3"/>
          <p:cNvSpPr/>
          <p:nvPr/>
        </p:nvSpPr>
        <p:spPr>
          <a:xfrm>
            <a:off x="1476360" y="115920"/>
            <a:ext cx="719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1835280" y="5516640"/>
            <a:ext cx="709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2" descr="&amp;Dcy;&amp;iecy;&amp;tcy;&amp;scy;&amp;kcy;&amp;icy;&amp;jcy; &amp;scy;&amp;acy;&amp;dcy; 2413 16 &amp;Mcy;&amp;Acy;&amp;Rcy;&amp;Tcy;&amp;Acy; &amp;Vcy; &amp;Rcy;&amp;Acy;&amp;Mcy;&amp;Kcy;&amp;Acy;&amp;KHcy; &amp;Pcy;&amp;Rcy;&amp;Ocy;&amp;IEcy;&amp;Kcy;&amp;Tcy;&amp;Acy; &quot;&amp;Mcy;&amp;Ocy;&amp;Scy;&amp;Kcy;&amp;Vcy;&amp;Icy;&amp;CHcy;&amp;Icy; &amp;Scy; &amp;Rcy;&amp;Ocy;&amp;ZHcy;&amp;Dcy;&amp;IEcy;&amp;Ncy;&amp;Icy;&amp;YAcy; - &amp;Zcy;&amp;Acy; &amp;Bcy;&amp;IEcy;&amp;Zcy;&amp;Ocy;&amp;Pcy;&amp;Acy;&amp;Scy;&amp;Ncy;&amp;Ocy;&amp;Scy;&amp;Tcy;&amp;SOFTcy; &amp;Dcy;&amp;Ocy;&amp;Rcy;&amp;Ocy;&amp;ZHcy;&amp;Ncy;&amp;Ocy;&amp;Gcy;&amp;Ocy; &amp;Dcy;&amp;Vcy;&amp;Icy;&amp;ZHcy;&amp;IEcy;&amp;Ncy;&amp;Icy;&amp;YAcy;&quot; &amp;Pcy;&amp;Rcy;&amp;Ocy;&amp;SHcy;&amp;Lcy;&amp;Acy; &amp;Vcy;&amp;Scy;&amp;Tcy;&amp;Rcy;&amp;IEcy;&amp;CHcy;&amp;Acy; &amp;Scy; &amp;Icy;&amp;Ncy;&amp;Scy;&amp;Pcy;&amp;IEcy;&amp;Kcy;&amp;Tcy;&amp;Ocy;&amp;Rcy;"/>
          <p:cNvPicPr/>
          <p:nvPr/>
        </p:nvPicPr>
        <p:blipFill>
          <a:blip r:embed="rId3"/>
          <a:stretch/>
        </p:blipFill>
        <p:spPr>
          <a:xfrm>
            <a:off x="1547640" y="3500280"/>
            <a:ext cx="1368720" cy="17290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4" descr="&amp;Mcy;&amp;acy;&amp;tcy;&amp;iecy;&amp;rcy;&amp;icy;&amp;acy;&amp;lcy;&amp;ycy; &amp;zcy;&amp;acy; 03.08.2011 &quot; &amp;Scy;&amp;tcy;&amp;rcy;&amp;acy;&amp;ncy;&amp;icy;&amp;tscy;&amp;acy; 128 &quot; &amp;Ocy;&amp;bcy;&amp;rcy;&amp;acy;&amp;zcy;&amp;ocy;&amp;vcy;&amp;acy;&amp;tcy;&amp;iecy;&amp;lcy;&amp;softcy;&amp;ncy;&amp;ycy;&amp;jcy; &amp;pcy;&amp;ocy;&amp;rcy;&amp;tcy;&amp;acy;&amp;lcy; &amp;Mcy;&amp;icy;&amp;scy;&amp;tcy;&amp;iecy;&amp;rcy;&amp;Gcy;&amp;Icy;&amp;Dcy;"/>
          <p:cNvPicPr/>
          <p:nvPr/>
        </p:nvPicPr>
        <p:blipFill>
          <a:blip r:embed="rId4"/>
          <a:stretch/>
        </p:blipFill>
        <p:spPr>
          <a:xfrm>
            <a:off x="4211640" y="3645000"/>
            <a:ext cx="1576440" cy="16556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6" descr="&amp;Pcy;&amp;Dcy;&amp;Dcy;. &amp;Ucy;&amp;chcy;&amp;iecy;&amp;bcy;&amp;ncy;&amp;ocy;&amp;iecy; &amp;pcy;&amp;ocy;&amp;scy;&amp;ocy;&amp;bcy;&amp;icy;&amp;iecy; &amp;dcy;&amp;lcy;&amp;yacy; &amp;acy;&amp;vcy;&amp;tcy;&amp;ocy;&amp;shcy;&amp;kcy;&amp;ocy;&amp;lcy;. &amp;Vcy;&amp;ocy;&amp;zhcy;&amp;dcy;&amp;iecy;&amp;ncy;&amp;icy;&amp;iecy; 2011, DOCX, PDF, MP3 TORRENTS.TJ"/>
          <p:cNvPicPr/>
          <p:nvPr/>
        </p:nvPicPr>
        <p:blipFill>
          <a:blip r:embed="rId5"/>
          <a:stretch/>
        </p:blipFill>
        <p:spPr>
          <a:xfrm>
            <a:off x="7020000" y="3213000"/>
            <a:ext cx="1457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Рисунок 1" descr="2_0.t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0T04:44:21Z</dcterms:created>
  <dc:creator>admin</dc:creator>
  <dc:description/>
  <dc:language>en-US</dc:language>
  <cp:lastModifiedBy>эльдорадо</cp:lastModifiedBy>
  <dcterms:modified xsi:type="dcterms:W3CDTF">2020-05-06T17:24:14Z</dcterms:modified>
  <cp:revision>9</cp:revision>
  <dc:subject/>
  <dc:title>ПРАВИЛА ДОРОЖНОГО ДВИЖЕНИЯ</dc:title>
</cp:coreProperties>
</file>