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3A5-3EE4-4F62-8715-36401990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282-9EA7-49CF-93E7-82A5B79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995-D21B-4089-B815-0C0A2781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752-6973-4FB5-A4C0-B7C87D46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6D1D-0A7E-4470-94CD-D5C6C1F4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A3BD-F7A5-4553-8408-23DEB138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3115-3199-4601-9156-813B986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71D-238B-4D96-A2D6-5A8CBD51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BF97-414C-42AF-8AA9-BF36D096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D7D-6B6B-48C0-9FA5-CA922C0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6BDF-44E6-4F7D-962D-0BB68A7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E30-58FF-48FB-8684-61639F9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EDC-6AB9-48DC-A336-AD63DBD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5A6-11F8-4887-8383-88974FD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F799-49AA-4BCD-B4DE-993062F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AAE-560D-4992-A564-B5FC0562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2B5-2D9B-4CBD-9327-F7FFEA64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CB61-AF08-488C-9D8C-3A40DC81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00DA-62C1-4BDD-B2EF-ABD8341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9BCD-49DB-4A5A-86BF-258F552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B921-7451-44B4-87BE-E3E7C3D9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4E2B-C3C8-46B0-994F-EE2B9FA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1DA-BC38-4D63-A42F-C594CD9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47EE-2E0D-4C4B-A9AE-6657DB3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2C81-6F5C-49FA-AF71-C358190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B9EE-9DA4-4B87-A657-9FAF526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7EF4-4D8D-4EDE-B283-CE4BCCE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C1F8-D412-4D64-B914-A27AB1DD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B0F0-0AF1-4884-AD6B-64F0CA49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94D5-17B3-4174-B7F3-76576C3B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B5AB-066C-4E6A-A02F-C12D20F6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88D6-F70F-4A03-960E-662EE679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E3C9-2BBC-4B3C-B5E8-46FA8F1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7A0-3446-4796-AC73-80227A4A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0C81-F07A-46AF-9B78-8F3FAD8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40A3-27B9-4CD9-906D-9DEB525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B1D6-223C-4208-80CB-F96F8C44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F75D-D354-4238-97AF-4EB609A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4B06-E75B-4291-A02F-73C470F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7B25-FD5E-47BC-AF10-4742B67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83F1-4B9C-4132-BB5D-9EAAF1D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CB3B-60A6-4479-A3E1-BE0A868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C19B-B513-456B-AF29-8E622BC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0A4F-D8C9-4DFD-8404-6E03461E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176-FF6F-493D-B90A-4E07C75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B976-315D-4C80-811D-6F8E522D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A942-B600-4362-A8FC-B11457E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59B6-91DE-4888-8AA9-615388E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42B6-D9C7-47FD-85B2-EA5070C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538D-5738-4CE7-9238-CF1CF1E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6230-03F8-4E1D-8813-891390B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A3CB-4BE1-486C-9777-1D0DDC7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01DD-FB9A-4E2C-8C10-0C88AAE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688C-01DD-446A-BC22-9F3FCC86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01F8-0E87-4A1B-8EA2-C4DF1AFF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605-3109-4349-A60F-2FBE185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C564-9B6C-41E3-BAC6-79AE28A5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11E3-1631-49F6-94C5-BCE21EE3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853B-6045-4CFA-968F-335326A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B57C-0301-44E4-A894-A50545A0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0900-61F3-444B-A597-369C20DA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66A40-540E-4359-8CF8-2FC25C3F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664E-CF2B-4CBD-AF30-5B815C0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0251-C73C-41BC-B62F-17165F4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04BA-86AC-493D-8548-1876403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E6F3-FB1D-4050-B299-82311DB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FFA-40B1-4A71-9C64-DE8FB5D4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9FC1-3E39-4186-B3A0-69CF3B5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346A-7B30-4FAA-9CBD-2A8D9DD6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1D29-39A8-45C7-BD75-F7E38E00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BEE3-814C-40B1-B85A-42AFF355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0FC5-F08D-4996-86B1-7ED8982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6F44-5314-44FF-8EF1-6FD81532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9D69-A7F7-46F3-95D9-0D7CAC9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67F9-3ED0-4262-94ED-C45C47DC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DE1F-EE9C-42E9-8269-8B7A7E95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CB21-17ED-4DFE-8167-A5A46A7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8F9-4832-440A-9856-EFE63A6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AEF8-7740-4F1A-A614-47D7385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90CD-3E33-4507-B1B4-1F0DAA4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2823-3A1A-42FB-AB0B-F365CE6E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2111-C056-48D1-9152-5E56E815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564A-1354-4802-B049-5C51891A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3AA-4C3D-4A35-8352-B2EBD8B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63D-4A66-40F4-A64A-D41143C6E2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882-AE03-411F-B447-C38559FB40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C0F-CAB9-492E-AC21-5512E11B94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8EF-8F19-4850-9661-244C2E3339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527A-3132-4479-85E3-7CCF8F24D5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434E-473A-4FA2-AE4B-115A649D26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F2B-0692-438F-8412-6731D62539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60560" y="1500120"/>
            <a:ext cx="8083440" cy="1955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476360" y="11592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835280" y="551664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3"/>
          <a:stretch/>
        </p:blipFill>
        <p:spPr>
          <a:xfrm>
            <a:off x="1547640" y="3500280"/>
            <a:ext cx="1368720" cy="172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4"/>
          <a:stretch/>
        </p:blipFill>
        <p:spPr>
          <a:xfrm>
            <a:off x="4211640" y="364500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5"/>
          <a:stretch/>
        </p:blipFill>
        <p:spPr>
          <a:xfrm>
            <a:off x="7020000" y="3213000"/>
            <a:ext cx="1457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эльдорадо</cp:lastModifiedBy>
  <dcterms:modified xsi:type="dcterms:W3CDTF">2020-05-06T17:24:14Z</dcterms:modified>
  <cp:revision>9</cp:revision>
  <dc:subject/>
  <dc:title>ПРАВИЛА ДОРОЖНОГО ДВИЖЕНИЯ</dc:title>
</cp:coreProperties>
</file>